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6D9-95D4-4BA1-B5DC-4619A7B3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6D9-4EE9-4FC3-A8BE-877B31D8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C2C-4034-4F5C-B809-D4D68ABE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2EF-46E8-499A-BBA5-E791F4F0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5D28-C564-4A99-8B17-60100B64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7F06-B1F6-4FE5-A1CF-6FB206CD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D603-B7B1-4923-8C3C-B361EA47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37F7-68DB-4870-B037-FC4A4098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0F99-B4DD-4A8D-AE96-52DB975E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D827-6A0A-41BE-9E0D-C72E658B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4A62-EABA-41F6-8966-8B6FE671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3AB-A381-4D7D-8B1D-DA6151E2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5475-9DF7-4902-9214-95E4A3B5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DD4F-3F93-4B91-A96D-EAEC6490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7852-81BD-4C03-8984-CA434F3F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CEAF-4999-45DE-9340-E2A2989A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B4BB-FB93-47E6-861A-D47F3AF2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91E-B012-4017-BCA3-5ADB1733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8C5-814E-453B-B011-F4206FD3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B2B-6653-48DA-B9FE-82ED194D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656-C040-4CB7-8C50-3F1E7629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745-A15A-4A72-AAD5-E2E0C235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A05-A92E-4970-9083-FF71BF65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A37-7B0A-411E-9347-9C6166C7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CB42-13A7-4F25-9D9F-B55207FFB28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4818-FE27-4716-88D0-7CBD1A4C1A9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lase de espan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erta,dal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825560" y="198108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153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s col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fé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j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ora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ergr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zu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38102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s anima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r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a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eji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li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ripo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643720" y="2136600"/>
            <a:ext cx="1819080" cy="1668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637240" y="436716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s numero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er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n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re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uatr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e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ch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uev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16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 Estaci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viern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mave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eran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to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1682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30:15Z</dcterms:created>
  <dc:creator>WSFCS Workstation</dc:creator>
  <dc:description/>
  <dc:language>en-US</dc:language>
  <cp:lastModifiedBy>WSFCS Workstation</cp:lastModifiedBy>
  <dcterms:modified xsi:type="dcterms:W3CDTF">2010-04-27T18:59:05Z</dcterms:modified>
  <cp:revision>3</cp:revision>
  <dc:subject/>
  <dc:title>La clase de espanol</dc:title>
</cp:coreProperties>
</file>